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505-B2A5-47A9-AA61-50453729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00B-646B-4DB3-82BF-0F05D6A3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5FB-3695-4275-9FCC-30B874B7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C22-E83E-4E49-9229-66C3FF56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A72-96C8-4C68-9877-7D489C8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AD3-3006-48C5-82F5-FBBD13E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F6C-1FF8-444A-8240-16D09556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C2F-2822-4114-B2CB-33B04BE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622-0EBC-4B97-A997-BDBC272D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0A7-9201-489B-B2F8-5F85C9A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A0C-38D4-4F9B-A0F0-F7D1F07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6D3-15F8-4864-BDFB-EE81E8F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C83-3973-4B61-B115-F34C6338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49:26Z</dcterms:created>
  <dc:creator>EC Computing Customer</dc:creator>
  <dc:description/>
  <dc:language>en-US</dc:language>
  <cp:lastModifiedBy>mpetrow</cp:lastModifiedBy>
  <dcterms:modified xsi:type="dcterms:W3CDTF">2009-06-30T15:46:57Z</dcterms:modified>
  <cp:revision>17</cp:revision>
  <dc:subject/>
  <dc:title>Slide 1</dc:title>
</cp:coreProperties>
</file>