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63B-43C4-4674-879D-D36AEEEE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E74-5E4B-4A80-AA24-69EED0F3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0ED-AE8F-4A64-A4B8-C55B1EEF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B64-DFF8-4C69-9D87-465EE24F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4E1-E1C3-4E69-A465-85CC9E67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C9B-FA12-4939-A13B-FB0CCC37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917-F1D0-4026-8E97-2807DD1B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F9C-F6FC-4C50-823B-A9002EF9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0B8-8326-45CD-9873-235BE5FB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9D2-BC2C-4CD7-89CF-C167E9B8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EB4-535D-4C13-9E58-CB261EDE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CB3-AADE-4621-BB83-DBF568AF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AF81-2395-4A5B-96C3-0792F5199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e81679.cgm"/>
          <p:cNvPicPr/>
          <p:nvPr/>
        </p:nvPicPr>
        <p:blipFill>
          <a:blip r:embed="rId1"/>
          <a:stretch/>
        </p:blipFill>
        <p:spPr>
          <a:xfrm>
            <a:off x="477720" y="0"/>
            <a:ext cx="818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8:10:12Z</dcterms:created>
  <dc:creator>RJKNAPIK</dc:creator>
  <dc:description/>
  <dc:language>en-US</dc:language>
  <cp:lastModifiedBy>gcmyers</cp:lastModifiedBy>
  <dcterms:modified xsi:type="dcterms:W3CDTF">2010-03-05T17:03:58Z</dcterms:modified>
  <cp:revision>1</cp:revision>
  <dc:subject/>
  <dc:title>Slide 1</dc:title>
</cp:coreProperties>
</file>