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8C3-CCE5-47FF-9718-BBC87ED55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AA0-94D2-4933-B05D-213E56D21F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ени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2F0F-94C0-40CB-A1BC-9539C0B3A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6DA-24D0-41BB-9244-704CF151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F97-9918-45BD-AF69-F8E9D420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FD6-A279-4CD3-8DB9-88543C5B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14B-2A27-49F0-B2AB-FA1F73AB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E8F-59A6-4F25-B030-57E05A8B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23D-FFFE-4455-87E2-7477589D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C56C-21F4-4FF0-906C-EAA50ADE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77B-7506-402D-8608-EE9A29E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0EA-A964-4A51-8BB1-8C06F52E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E5C-67E4-431A-8D5D-DBF8616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806-FD66-45CB-A93E-1AA18A6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B5D9-DC18-4901-9A65-BB00E6B8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642-3D73-4824-8E9A-087B8479C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я полезная презент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Или чушь и баклажанная револю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гда баклажаны правили ми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58:26Z</dcterms:created>
  <dc:creator>Alevtina Gamzikova</dc:creator>
  <dc:description/>
  <dc:language>en-US</dc:language>
  <cp:lastModifiedBy>Alevtina Gamzikova</cp:lastModifiedBy>
  <dcterms:modified xsi:type="dcterms:W3CDTF">2012-01-15T16:03:58Z</dcterms:modified>
  <cp:revision>1</cp:revision>
  <dc:subject/>
  <dc:title>Самая полезная презентация</dc:title>
</cp:coreProperties>
</file>