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A42-41C6-40AE-B955-51255E2E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17D-9EAD-4638-BAE0-55C5B041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F71-201C-4EA4-A559-B0CAD202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3DA-B852-4F9A-8333-B0E0FEF8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A08-B8A4-4830-A8A8-D496A74C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5D7-4837-4CBB-BA1A-10E4ED35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84E-1A76-46ED-9482-8C172FAC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C6D-8E83-419F-9E0B-E6A8FEA6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309F-839A-4F0C-98EA-BBCD2922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E32-698D-4FDC-A2F0-7F0659C3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5CE-1D1F-4B46-AE48-016A33CA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0BDF-5538-454F-B223-F9DC2298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B838-DAF6-4FF9-B7DF-3321AC153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 в психолг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ткий к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дентификация л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13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нтификация личности — механизм, работа которого основана на существовании эмоциональной связи индивида с другими людьми, прежде всего его родителями, приводящий к уподоблению, чаще всего неосознанному, этим значимым другим. Ориентация на другого человека как на образец существенно повышает показатели социального научения. За счет идентификации у маленького ребенка происходит формирование поведенческих стереотипов, образующих черты личности, определение ценностных ориентаций и полоролевой идент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оляция как защ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ляция в психологии личности — форма психологической защиты. Характеризуется тем, что при ее реализации происходит блокирование отрицательных эмоций за счет устранения из сознания связи между ними и их источн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1:44:53Z</dcterms:created>
  <dc:creator>havr</dc:creator>
  <dc:description/>
  <dc:language>en-US</dc:language>
  <cp:lastModifiedBy>havr</cp:lastModifiedBy>
  <dcterms:modified xsi:type="dcterms:W3CDTF">2008-09-08T11:45:12Z</dcterms:modified>
  <cp:revision>1</cp:revision>
  <dc:subject/>
  <dc:title>Введение в психолгию</dc:title>
</cp:coreProperties>
</file>